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2B8-ECA9-4D8A-875E-57D3AAF1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627-1004-4F02-B43A-32A77C0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BD4-BE98-4E33-B136-B11672E0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A7B-0910-496C-8B10-FEEF257B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1FE7-899A-4AA2-ACAB-64C721D8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EABD-F228-4A17-B84A-F42B6423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B57-3AAE-4BE6-9392-24622134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3C97-A6F6-4A00-864F-1665B0BC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4390-DEED-4A89-BC03-42618C93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22BF-8833-442B-90FA-AFA13109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0A5D-AA9D-4A15-8E59-AABACD2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7B1-945E-4529-B2CB-0450D9BA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F4B1-1FE8-466E-877F-8D0AF2A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20E3-8E80-4E96-84D7-130D1FC4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45A8-EFDF-4563-A6B6-74B0F6A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5107-8D20-41AD-93E3-36C8AFA5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6843-9E0C-415E-B842-74E6B54B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63F8-661C-4456-BA23-C0E808CE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FDA8-009A-4B83-989B-B47071B4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86B1-492A-4FC8-8515-BDE70ACB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8228-2920-4AAA-A085-F02C5F1C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1EDE-9A05-4E24-A00F-9097AB93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1BB-69A5-4F0F-BC4B-C1B2C744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A195-59F0-4CFD-985F-BCCE211E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C4C8-3E70-4315-90A6-2F3EB93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25929-456B-4E3F-A8F4-2C2679C7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A23E-A2E9-4460-ADE9-590EF476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DE23-620B-4390-BA14-902686FD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BADF-D330-4F15-A3C4-94398459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53ED-654A-4EEA-B136-F11F5B5C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4A74-A183-4CB4-8A38-21617D76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572B-F319-4304-A57A-9F8ADF36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CFE5-0604-46BB-88EE-4FB9035F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7BF-65A1-4054-A745-A73BC923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C7C1-5339-4B27-86DB-BA7EA35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5DB5-3EB3-481D-B506-79AE8814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E17B-4ED0-42A5-88EE-8B91D77D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EFF8-439D-4311-8FF7-865AD54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36FF-6C9A-4771-ACEC-F44A6369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3292-B2F4-4325-A3A5-0450F34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F790-83D3-4B26-8DC7-23E3487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D0AF-D4FF-4E33-8C5B-DDDB4D4A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65D8-2E88-4E44-A732-CCA3BEE1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0E4-68A1-45FC-8E3A-EB35B68F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989-CDD7-4555-A266-874515B3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90E-ACBD-4604-A824-A022E9D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A75-4CDE-4F1A-9971-25C15AF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4BE-E578-4E9C-8D6E-7E24133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C596-EA09-4B79-9BB9-D7896A8A8111}" type="slidenum">
              <a:rPr b="0" lang="it-IT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A400-E268-4A1C-A3C4-AE99953EDA33}" type="slidenum">
              <a:rPr b="0" lang="it-IT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E8E0-BBD0-466F-A8E0-21EBB56E7F17}" type="slidenum">
              <a:rPr b="0" lang="it-IT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D6F-AEFA-4CB1-B021-C9E23BEF731B}" type="slidenum">
              <a:rPr b="0" lang="it-IT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200" spc="-1" strike="noStrike">
                <a:solidFill>
                  <a:srgbClr val="ebebeb"/>
                </a:solidFill>
                <a:latin typeface="Century Gothic"/>
              </a:rPr>
              <a:t>CITTADINANZA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Rettangolo 12"/>
          <p:cNvSpPr/>
          <p:nvPr/>
        </p:nvSpPr>
        <p:spPr>
          <a:xfrm>
            <a:off x="324000" y="3129120"/>
            <a:ext cx="4535280" cy="115092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entury Gothic"/>
              </a:rPr>
              <a:t>PARTECIPAZIO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457200" y="1378080"/>
            <a:ext cx="8305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nche la partecipazione al processo politico è diversificata e implica forme diverse di cittadinanz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appresentanza diretta (voto universal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appresentanza indiretta (gli eletti eleggono i rappresentant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otestà legislativa indiretta (parlamento, proposte di legg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otestà legislativa diretta (referendu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533520" y="23623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CITTADINANZA E TERRITORIO SONO SISTEMI COMPLESSI E DINAM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Segnaposto contenuto 2"/>
          <p:cNvSpPr/>
          <p:nvPr/>
        </p:nvSpPr>
        <p:spPr>
          <a:xfrm>
            <a:off x="609480" y="3657600"/>
            <a:ext cx="797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NON ESISTE UNA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SENZA TERRITO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NON ESISTE UN TERRITORI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SENZA CITTADI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609480" y="990720"/>
            <a:ext cx="8077320" cy="94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la   CITTADINANZA   si   esprime   in   un   TERRITO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63d40"/>
                </a:solidFill>
                <a:latin typeface="Times New Roman"/>
              </a:rPr>
              <a:t>Perchè interrogarsi oggi sul significato di cittadinanz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78000" y="2819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 Trattato di Maastricht – 1992 istituisce una “cittadinanza limitata”, con una parte ristretta di diritti/doveri politici e pochi diritti sociali uniformi nel nuovo territo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380880" y="4876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Oggi la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TTADINA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intesa almeno come appartenenza e in parte come complesso di diritti e doveri, non è più singolare ma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LURIM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609480" y="25146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380880" y="1828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territorio si è ampliato  progressivamente dalla polis allo Stato/Nazione all’Unione Europ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Perchè interrogarsi oggi sul significato di cittadinan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80880" y="16984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  <a:ea typeface="Arial"/>
              </a:rPr>
              <a:t>La dimensione e la rapidità assunta dal fenomeno dell’immigrazione determina la necessità di confrontarsi con riferimenti culturali e fondamenti valoriali profondamente dive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11120" y="386064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riferimenti culturali e valoriali di cui sono portatori i nuovi abitanti dell’Europa possono comportare una definizione più laboriosa del significato di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TTADINA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che è quindi ancor più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NAMIC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ttadinanza attiv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è la partecipazione dei cittadini alle attività svolte dallo Sta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obiettivo è quello di far sì che tutti i cittadini abbiano voce ed esercitino poteri e responsabilità in tutte le situazioni in cui i loro diritti vengono violati e/o disattesi.</a:t>
            </a:r>
            <a:r>
              <a:rPr b="0" i="1" lang="it-IT" sz="2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Fare i cittadini è il modo migliore di esserlo</a:t>
            </a:r>
            <a:r>
              <a:rPr b="0" lang="it-IT" sz="26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700"/>
            </a:br>
            <a:r>
              <a:rPr b="0" lang="it-IT" sz="2700" spc="-1" strike="noStrike">
                <a:solidFill>
                  <a:srgbClr val="898989"/>
                </a:solidFill>
                <a:latin typeface="Century Gothic"/>
              </a:rPr>
              <a:t> 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er un giovane essere cittadino attivo signific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ribuire alla comunità di riferimento (il territorio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Immagine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6572520" cy="1511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ell’indivisibilità dei valori fondamentali  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riconoscimento del patrimonio comune europeo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diritto umano all’ambient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i integrazion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ella gestione congiunta delle risorse condivis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i responsabilità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diritto alla conoscenza ed all’informazion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ella democrazia partecipata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ella sussidiarietà e dell’indipendenza locale nel rispetto dello sviluppo sostenibil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I VALORI INTERDIPENDENTI ED INDIVISIBILI CONDIVISI DAI MEMBRI DEL CONSIGLIO EUROPEO SONO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Pace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rispetto dei diritti umani e delle libertà fondamental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democrazia nazionale e locale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Sviluppo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equità tra le generazion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cooperazione tra gli stati e solidarietà tra i popol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PARTECIP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3"/>
          <p:cNvSpPr/>
          <p:nvPr/>
        </p:nvSpPr>
        <p:spPr>
          <a:xfrm>
            <a:off x="324000" y="1268280"/>
            <a:ext cx="8610480" cy="40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iconoscere di </a:t>
            </a:r>
            <a:r>
              <a:rPr b="1" i="1" lang="it-IT" sz="2400" spc="-1" strike="noStrike">
                <a:solidFill>
                  <a:srgbClr val="ff3300"/>
                </a:solidFill>
                <a:latin typeface="Verdana"/>
              </a:rPr>
              <a:t>essere par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significa condivide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19240" y="2379600"/>
            <a:ext cx="8610480" cy="233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Verdana"/>
              </a:rPr>
              <a:t>Prendere par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significa riconoscere il mondo come 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</a:rPr>
              <a:t>luogo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ove orientars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er prendere parte è necessario 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</a:rPr>
              <a:t>scegliere da che parte stare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partecipazione arricchisce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</a:rPr>
              <a:t>il senso e la prospettiva della cittadinanza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609480" y="11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PARTE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CIP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AZION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09480" y="18288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at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371600" y="2362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nform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133720" y="2895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00"/>
                </a:solidFill>
                <a:latin typeface="Verdana"/>
              </a:rPr>
              <a:t>finalizz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97180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cc00"/>
                </a:solidFill>
                <a:latin typeface="Verdana"/>
              </a:rPr>
              <a:t>ragion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8098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Verdana"/>
              </a:rPr>
              <a:t>compet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48006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cri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563868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responsa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200" spc="-1" strike="noStrike">
                <a:solidFill>
                  <a:srgbClr val="ebebeb"/>
                </a:solidFill>
                <a:latin typeface="Century Gothic"/>
              </a:rPr>
              <a:t>CITTADINANZ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920" y="2060280"/>
            <a:ext cx="329904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entury Gothic"/>
              </a:rPr>
              <a:t>DIRITTI E DOVER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41880" y="2055960"/>
            <a:ext cx="4146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entury Gothic"/>
              </a:rPr>
              <a:t>APPARTENENZ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838080" y="11430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TTADINA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non è una termine nuo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suo significato si è però trasformato e, periodicamente, ridefinito</a:t>
            </a:r>
            <a:r>
              <a:rPr b="0" lang="it-IT" sz="2400" spc="-1" strike="noStrike">
                <a:solidFill>
                  <a:srgbClr val="ea631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38080" y="3124080"/>
            <a:ext cx="769644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ignificat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si assegna al termine deriva dalla combinazione di tre tematich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individu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complesso dei diritti e dei dover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l’appartenenza ad un ordine politico-giurid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30492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questione della CITTADINANZA consiste i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304920" y="3124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INNESTO DEL SINGOLO NELLA COMUNITA’ POLI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80880" y="4648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N UN TEMPO ED UNO SPAZIO DETERMINA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685800" y="838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definizione di CITTADINANZA presuppon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85800" y="2209680"/>
            <a:ext cx="4724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 territorio (cioè un confin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 tempo (sociale e culturale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525780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apparten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85800" y="350532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 complesso di dirit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 complesso di dove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334120" y="3733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valori / cultu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4952880" y="358128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12800" y="50245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opportun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modal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2590920" y="5291280"/>
            <a:ext cx="6553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i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partecip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lla comunità poli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2362320" y="518148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685800" y="1447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riconoscimento di sé e dell’altro da me (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viduo</a:t>
            </a:r>
            <a:r>
              <a:rPr b="0" lang="it-IT" sz="2400" spc="-1" strike="noStrike">
                <a:solidFill>
                  <a:srgbClr val="ff33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arentesi graffa chiusa 1"/>
          <p:cNvSpPr/>
          <p:nvPr/>
        </p:nvSpPr>
        <p:spPr>
          <a:xfrm>
            <a:off x="4952880" y="2368440"/>
            <a:ext cx="228600" cy="720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720720"/>
              <a:gd name="textAreaBottom" fmla="*/ 71496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6"/>
                  <a:pt x="10800" y="571"/>
                </a:cubicBezTo>
                <a:lnTo>
                  <a:pt x="10800" y="10229"/>
                </a:lnTo>
                <a:cubicBezTo>
                  <a:pt x="10800" y="10515"/>
                  <a:pt x="16200" y="10800"/>
                  <a:pt x="21600" y="10800"/>
                </a:cubicBezTo>
                <a:cubicBezTo>
                  <a:pt x="16200" y="10800"/>
                  <a:pt x="10800" y="11086"/>
                  <a:pt x="10800" y="11371"/>
                </a:cubicBezTo>
                <a:lnTo>
                  <a:pt x="10800" y="21029"/>
                </a:lnTo>
                <a:cubicBezTo>
                  <a:pt x="10800" y="21315"/>
                  <a:pt x="5400" y="21600"/>
                  <a:pt x="0" y="21600"/>
                </a:cubicBezTo>
              </a:path>
            </a:pathLst>
          </a:custGeom>
          <a:noFill/>
          <a:ln cap="rnd" w="9360">
            <a:solidFill>
              <a:srgbClr val="b015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3"/>
          <p:cNvSpPr/>
          <p:nvPr/>
        </p:nvSpPr>
        <p:spPr>
          <a:xfrm>
            <a:off x="533520" y="685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La Costituzione Italiana definisce la cittadinanza indirettamente (DIRITTI – DOVERI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8600" y="19051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Art. 2: </a:t>
            </a:r>
            <a:r>
              <a:rPr b="0" i="1" lang="it-IT" sz="2200" spc="-1" strike="noStrike">
                <a:solidFill>
                  <a:srgbClr val="ffffff"/>
                </a:solidFill>
                <a:latin typeface="Verdana"/>
              </a:rPr>
              <a:t>La Repubblica riconosce e garantisce i diritti inviolabili dell'uomo sia come singolo sia nelle formazioni sociali ove si svolge la sua personalità e e richiede l'adempimento dei doveri inderogabili di solidarietà politica, economica e social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8600" y="3505320"/>
            <a:ext cx="891540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Art 3: </a:t>
            </a:r>
            <a:r>
              <a:rPr b="0" i="1" lang="it-IT" sz="2200" spc="-1" strike="noStrike">
                <a:solidFill>
                  <a:srgbClr val="ffffff"/>
                </a:solidFill>
                <a:latin typeface="Verdana"/>
              </a:rPr>
              <a:t>Tutti i cittadini hanno pari dignità sociale e sono eguali davanti alla legge, senza distinzione di sesso, di razza, di lingua, di religione, di opinioni politiche, di condizioni personali e sociali. È compito della Repubblica rimuovere gli ostacoli di ordine economico e sociale, che, limitando di fatto la libertà e l'eguaglianza dei cittadini, impediscono il pieno sviluppo della persona umana e l'effettiva partecipazione di tutti i lavoratori all'organizzazione politica, economica e sociale del Paese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1"/>
          <p:cNvSpPr/>
          <p:nvPr/>
        </p:nvSpPr>
        <p:spPr>
          <a:xfrm>
            <a:off x="2268360" y="213372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Art. 4: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gni cittadino ha il dovere di svolgere, secondo le proprie possibilità e la propria scelta, un'attività o una funzione che concorra al progresso materiale o spirituale della società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ttangolo 2"/>
          <p:cNvSpPr/>
          <p:nvPr/>
        </p:nvSpPr>
        <p:spPr>
          <a:xfrm>
            <a:off x="212400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rt. 54: Tutti i cittadini hanno il dovere di essere fedeli alla Repubblica e di osservarne la Costituzione e le leggi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cittadini cui sono affidate funzioni pubbliche hanno il dovere di adempierle con disciplina ed onore, prestando giuramento nei casi stabiliti dalla leg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609480" y="838080"/>
            <a:ext cx="78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a CITTADINANZA è un concetto  / ha un significa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DINAMICO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57200" y="2057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diritti dell’uomo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diventano “reali” quando sono accolti nel sistema  politico giuridico, cioè quando diventa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80880" y="3352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ritti del cittadino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in quel tempo e di quel territorio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nei fatti son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i diritti sociali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(welfare state) che permettono di “valutare” l’effettivo grado di cittadinanza realizz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57200" y="5334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proposizione e l’accoglimento di nuovi diritti sociali, modificano il contenuto della cittadinanz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7:34:02Z</dcterms:created>
  <dc:creator>Studio Riggio</dc:creator>
  <dc:description/>
  <dc:language>en-US</dc:language>
  <cp:lastModifiedBy>user</cp:lastModifiedBy>
  <dcterms:modified xsi:type="dcterms:W3CDTF">2019-05-05T16:31:41Z</dcterms:modified>
  <cp:revision>34</cp:revision>
  <dc:subject/>
  <dc:title>Presentazione di PowerPoint</dc:title>
</cp:coreProperties>
</file>