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9FE-8136-4748-999C-7735E520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AE1-B12C-40F3-AC56-D71BCD37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072E-E5C1-4CE3-A25A-625C7F45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E18-221A-4013-BD24-BDB16FF9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20B7-67E8-4251-9307-D492F698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4995-BC09-40A4-AD0F-81CCFA8C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CC5A-4107-48A1-8B1E-9939AA99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582F-EB91-4397-BFED-9B1917CF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B990-056C-4C8C-8C52-0F1660BE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6894-0FA0-4728-B371-F0CD56A3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BCFB-A7CE-45C8-9806-FF3C0056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409-77A3-4E82-97F3-4CC5FDEF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B45F-91DA-45CF-B4B3-DE1CF3DC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E343-F695-449C-B0F8-1F35CA2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2B77-51E4-4812-8807-D77785FF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D1DE-53BA-4AD4-A2F6-307C16EF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5596-834A-4AD2-BD56-8C45F85A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184A-02DB-413B-81D3-E32FD1D7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4F5F-AE58-4835-B190-BCAE0A36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693BA-5027-495C-8BAB-654CC325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6DCEE-A336-4C01-A95B-31841D0F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6E2F-5A62-4D76-931F-16EC00E6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990-2444-4B89-BEDA-63B85992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22494-0C9D-4237-AB4E-DCD4BE84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E527-5381-4AB3-8B2E-303ED377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77D5-D823-4BC3-95FC-92DFBD70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401E4-0C12-4151-A80D-30C5D515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91B9E-9DC1-4B6F-9EF4-0C0193E7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3C626-1764-4E4D-8A44-E52359AA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3FA0C-4A44-4793-ACDC-A34ED977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00AC8-87AF-46DE-BDC4-FD856F74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C6168-EDC8-4304-B216-8CC236B2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D1960-270E-46AE-867F-87777306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843-A1DF-48B0-B693-B0FE6C17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C9A3-67DD-40EE-87E2-394C1CA6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229EF-EEF4-495A-8243-6962F4BA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142C2-113A-4B2E-8DD8-23E7DFA5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68EC4-C743-451A-8673-C81EF11E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A7701-C50D-4B34-8185-800AD7A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C06E9-9ED2-44A2-9775-0EEC4D4B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8A6F1-9D4F-474C-95AA-5DA547BB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25D2E-5A43-41B5-8C60-FFD8650B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93D58-CA3D-458B-9589-C9DD73D9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861F-044F-4FF0-A233-20E74EA6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80B-1996-4110-B56C-9ED9F6EF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06C-7A9A-4716-9BCE-4553578B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058-606C-4648-9144-7725E34E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72D-7017-4FC8-AB49-7B1AB07B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A76C-BA1B-4FDA-BA2D-A411EBE8CE50}" type="slidenum">
              <a:rPr b="0" lang="it-IT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0EF5-EF22-4E20-A5AF-3CA96687485C}" type="slidenum">
              <a:rPr b="0" lang="it-IT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DDBE-AA84-49C1-928F-1FE04501E467}" type="slidenum">
              <a:rPr b="0" lang="it-IT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894B-C685-4273-994A-07C778941B4F}" type="slidenum">
              <a:rPr b="0" lang="it-IT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200" spc="-1" strike="noStrike">
                <a:solidFill>
                  <a:srgbClr val="ebebeb"/>
                </a:solidFill>
                <a:latin typeface="Century Gothic"/>
              </a:rPr>
              <a:t>CITTADINANZA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Rettangolo 12"/>
          <p:cNvSpPr/>
          <p:nvPr/>
        </p:nvSpPr>
        <p:spPr>
          <a:xfrm>
            <a:off x="324000" y="3129120"/>
            <a:ext cx="4535280" cy="1150920"/>
          </a:xfrm>
          <a:prstGeom prst="rect">
            <a:avLst/>
          </a:prstGeom>
          <a:solidFill>
            <a:srgbClr val="b01513"/>
          </a:solidFill>
          <a:ln cap="rnd" w="19080">
            <a:solidFill>
              <a:srgbClr val="80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entury Gothic"/>
              </a:rPr>
              <a:t>PARTECIPAZION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457200" y="1378080"/>
            <a:ext cx="8305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Anche la partecipazione al processo politico è diversificata e implica forme diverse di cittadinanza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rappresentanza diretta (voto universal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rappresentanza indiretta (gli eletti eleggono i rappresentant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otestà legislativa indiretta (parlamento, proposte di legg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otestà legislativa diretta (referendu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533520" y="23623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CITTADINANZA E TERRITORIO SONO SISTEMI COMPLESSI E DINAMI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Segnaposto contenuto 2"/>
          <p:cNvSpPr/>
          <p:nvPr/>
        </p:nvSpPr>
        <p:spPr>
          <a:xfrm>
            <a:off x="609480" y="3657600"/>
            <a:ext cx="797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NON ESISTE UNA CITTADINA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SENZA TERRITO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NON ESISTE UN TERRITORI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SENZA CITTADI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609480" y="990720"/>
            <a:ext cx="8077320" cy="94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la   CITTADINANZA   si   esprime   in   un   TERRITO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63d40"/>
                </a:solidFill>
                <a:latin typeface="Times New Roman"/>
              </a:rPr>
              <a:t>Perchè interrogarsi oggi sul significato di cittadinanz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378000" y="28195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 Trattato di Maastricht – 1992 istituisce una “cittadinanza limitata”, con una parte ristretta di diritti/doveri politici e pochi diritti sociali uniformi nel nuovo territor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380880" y="4876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Oggi la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TTADINANZ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intesa almeno come appartenenza e in parte come complesso di diritti e doveri, non è più singolare ma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LURIM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609480" y="251460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380880" y="1828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l territorio si è ampliato  progressivamente dalla polis allo Stato/Nazione all’Unione Europe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3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Arial"/>
              </a:rPr>
              <a:t>Perchè interrogarsi oggi sul significato di cittadinanz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80880" y="169848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  <a:ea typeface="Arial"/>
              </a:rPr>
              <a:t>La dimensione e la rapidità assunta dal fenomeno dell’immigrazione determina la necessità di confrontarsi con riferimenti culturali e fondamenti valoriali profondamente divers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411120" y="386064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 riferimenti culturali e valoriali di cui sono portatori i nuovi abitanti dell’Europa possono comportare una definizione più laboriosa del significato di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TTADINANZ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che è quindi ancor più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NAMIC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ttadinanza attiv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è la partecipazione dei cittadini alle attività svolte dallo Sta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’obiettivo è quello di far sì che tutti i cittadini abbiano voce ed esercitino poteri e responsabilità in tutte le situazioni in cui i loro diritti vengono violati e/o disattesi.</a:t>
            </a:r>
            <a:r>
              <a:rPr b="0" i="1" lang="it-IT" sz="27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2600" spc="-1" strike="noStrike">
                <a:solidFill>
                  <a:srgbClr val="ffffff"/>
                </a:solidFill>
                <a:latin typeface="Verdana"/>
              </a:rPr>
              <a:t>Fare i cittadini è il modo migliore di esserlo</a:t>
            </a:r>
            <a:r>
              <a:rPr b="0" lang="it-IT" sz="26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700"/>
            </a:br>
            <a:r>
              <a:rPr b="0" lang="it-IT" sz="2700" spc="-1" strike="noStrike">
                <a:solidFill>
                  <a:srgbClr val="898989"/>
                </a:solidFill>
                <a:latin typeface="Century Gothic"/>
              </a:rPr>
              <a:t> 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er un giovane essere cittadino attivo significa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ontribuire alla comunità di riferimento (il territorio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Immagine 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6572520" cy="1511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principio dell’indivisibilità dei valori fondamentali  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riconoscimento del patrimonio comune europeo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diritto umano all’ambient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principio di integrazion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principio della gestione congiunta delle risorse condivis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principio di responsabilità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diritto alla conoscenza ed all’informazion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principio della democrazia partecipata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principio della sussidiarietà e dell’indipendenza locale nel rispetto dello sviluppo sostenibil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I VALORI INTERDIPENDENTI ED INDIVISIBILI CONDIVISI DAI MEMBRI DEL CONSIGLIO EUROPEO SONO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Pace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rispetto dei diritti umani e delle libertà fondamental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democrazia nazionale e locale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Sviluppo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equità tra le generazion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cooperazione tra gli stati e solidarietà tra i popol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280" y="256500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PARTECIPAZIO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3"/>
          <p:cNvSpPr/>
          <p:nvPr/>
        </p:nvSpPr>
        <p:spPr>
          <a:xfrm>
            <a:off x="324000" y="1268280"/>
            <a:ext cx="8610480" cy="404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Riconoscere di </a:t>
            </a:r>
            <a:r>
              <a:rPr b="1" i="1" lang="it-IT" sz="2400" spc="-1" strike="noStrike">
                <a:solidFill>
                  <a:srgbClr val="ff3300"/>
                </a:solidFill>
                <a:latin typeface="Verdana"/>
              </a:rPr>
              <a:t>essere part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significa condivide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219240" y="2379600"/>
            <a:ext cx="8610480" cy="2338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Verdana"/>
              </a:rPr>
              <a:t>Prendere part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significa riconoscere il mondo come </a:t>
            </a:r>
            <a:r>
              <a:rPr b="1" i="1" lang="it-IT" sz="2400" spc="-1" strike="noStrike">
                <a:solidFill>
                  <a:srgbClr val="ffffff"/>
                </a:solidFill>
                <a:latin typeface="Verdana"/>
              </a:rPr>
              <a:t>luogo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ove orientars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Per prendere parte è necessario </a:t>
            </a:r>
            <a:r>
              <a:rPr b="1" i="1" lang="it-IT" sz="2400" spc="-1" strike="noStrike">
                <a:solidFill>
                  <a:srgbClr val="ffffff"/>
                </a:solidFill>
                <a:latin typeface="Verdana"/>
              </a:rPr>
              <a:t>scegliere da che parte stare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a partecipazione arricchisce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400" spc="-1" strike="noStrike">
                <a:solidFill>
                  <a:srgbClr val="ffffff"/>
                </a:solidFill>
                <a:latin typeface="Verdana"/>
              </a:rPr>
              <a:t>il senso e la prospettiva della cittadinanza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609480" y="1143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PARTE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CIP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AZION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09480" y="18288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at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371600" y="2362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nform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133720" y="2895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00"/>
                </a:solidFill>
                <a:latin typeface="Verdana"/>
              </a:rPr>
              <a:t>finalizz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971800" y="3505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cc00"/>
                </a:solidFill>
                <a:latin typeface="Verdana"/>
              </a:rPr>
              <a:t>ragion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38098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Verdana"/>
              </a:rPr>
              <a:t>compete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480060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Verdana"/>
              </a:rPr>
              <a:t>cri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563868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responsab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200" spc="-1" strike="noStrike">
                <a:solidFill>
                  <a:srgbClr val="ebebeb"/>
                </a:solidFill>
                <a:latin typeface="Century Gothic"/>
              </a:rPr>
              <a:t>CITTADINANZ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6920" y="2060280"/>
            <a:ext cx="329904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entury Gothic"/>
              </a:rPr>
              <a:t>DIRITTI E DOVER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241880" y="2055960"/>
            <a:ext cx="4146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entury Gothic"/>
              </a:rPr>
              <a:t>APPARTENENZ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838080" y="114300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TTADINANZ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non è una termine nuo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l suo significato si è però trasformato e, periodicamente, ridefinito</a:t>
            </a:r>
            <a:r>
              <a:rPr b="0" lang="it-IT" sz="2400" spc="-1" strike="noStrike">
                <a:solidFill>
                  <a:srgbClr val="ea631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38080" y="3124080"/>
            <a:ext cx="769644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l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significat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si assegna al termine deriva dalla combinazione di tre tematich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’individu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l complesso dei diritti e dei dover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l’appartenenza ad un ordine politico-giurid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3"/>
          <p:cNvSpPr/>
          <p:nvPr/>
        </p:nvSpPr>
        <p:spPr>
          <a:xfrm>
            <a:off x="30492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a questione della CITTADINANZA consiste i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304920" y="31240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’INNESTO DEL SINGOLO NELLA COMUNITA’ POLI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80880" y="4648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N UN TEMPO ED UNO SPAZIO DETERMINA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685800" y="838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a definizione di CITTADINANZA presuppon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85800" y="2209680"/>
            <a:ext cx="4724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un territorio (cioè un confin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un tempo (sociale e culturale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525780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appartene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685800" y="350532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un complesso di dirit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un complesso di dove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334120" y="3733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valori / cultu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4952880" y="3581280"/>
            <a:ext cx="228600" cy="83844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712800" y="502452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opportunit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modalit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2590920" y="5291280"/>
            <a:ext cx="65530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di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partecip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alla comunità poli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2362320" y="5181480"/>
            <a:ext cx="228600" cy="83844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685800" y="1447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l riconoscimento di sé e dell’altro da me (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dividuo</a:t>
            </a:r>
            <a:r>
              <a:rPr b="0" lang="it-IT" sz="2400" spc="-1" strike="noStrike">
                <a:solidFill>
                  <a:srgbClr val="ff33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arentesi graffa chiusa 1"/>
          <p:cNvSpPr/>
          <p:nvPr/>
        </p:nvSpPr>
        <p:spPr>
          <a:xfrm>
            <a:off x="4952880" y="2368440"/>
            <a:ext cx="228600" cy="720720"/>
          </a:xfrm>
          <a:custGeom>
            <a:avLst/>
            <a:gdLst>
              <a:gd name="textAreaLeft" fmla="*/ 0 w 228600"/>
              <a:gd name="textAreaRight" fmla="*/ 82440 w 228600"/>
              <a:gd name="textAreaTop" fmla="*/ 5760 h 720720"/>
              <a:gd name="textAreaBottom" fmla="*/ 71496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6"/>
                  <a:pt x="10800" y="571"/>
                </a:cubicBezTo>
                <a:lnTo>
                  <a:pt x="10800" y="10229"/>
                </a:lnTo>
                <a:cubicBezTo>
                  <a:pt x="10800" y="10515"/>
                  <a:pt x="16200" y="10800"/>
                  <a:pt x="21600" y="10800"/>
                </a:cubicBezTo>
                <a:cubicBezTo>
                  <a:pt x="16200" y="10800"/>
                  <a:pt x="10800" y="11086"/>
                  <a:pt x="10800" y="11371"/>
                </a:cubicBezTo>
                <a:lnTo>
                  <a:pt x="10800" y="21029"/>
                </a:lnTo>
                <a:cubicBezTo>
                  <a:pt x="10800" y="21315"/>
                  <a:pt x="5400" y="21600"/>
                  <a:pt x="0" y="21600"/>
                </a:cubicBezTo>
              </a:path>
            </a:pathLst>
          </a:custGeom>
          <a:noFill/>
          <a:ln cap="rnd" w="9360">
            <a:solidFill>
              <a:srgbClr val="b015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3"/>
          <p:cNvSpPr/>
          <p:nvPr/>
        </p:nvSpPr>
        <p:spPr>
          <a:xfrm>
            <a:off x="533520" y="6858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La Costituzione Italiana definisce la cittadinanza indirettamente (DIRITTI – DOVERI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28600" y="190512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Art. 2: </a:t>
            </a:r>
            <a:r>
              <a:rPr b="0" i="1" lang="it-IT" sz="2200" spc="-1" strike="noStrike">
                <a:solidFill>
                  <a:srgbClr val="ffffff"/>
                </a:solidFill>
                <a:latin typeface="Verdana"/>
              </a:rPr>
              <a:t>La Repubblica riconosce e garantisce i diritti inviolabili dell'uomo sia come singolo sia nelle formazioni sociali ove si svolge la sua personalità e e richiede l'adempimento dei doveri inderogabili di solidarietà politica, economica e sociale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28600" y="3505320"/>
            <a:ext cx="891540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Art 3: </a:t>
            </a:r>
            <a:r>
              <a:rPr b="0" i="1" lang="it-IT" sz="2200" spc="-1" strike="noStrike">
                <a:solidFill>
                  <a:srgbClr val="ffffff"/>
                </a:solidFill>
                <a:latin typeface="Verdana"/>
              </a:rPr>
              <a:t>Tutti i cittadini hanno pari dignità sociale e sono eguali davanti alla legge, senza distinzione di sesso, di razza, di lingua, di religione, di opinioni politiche, di condizioni personali e sociali. È compito della Repubblica rimuovere gli ostacoli di ordine economico e sociale, che, limitando di fatto la libertà e l'eguaglianza dei cittadini, impediscono il pieno sviluppo della persona umana e l'effettiva partecipazione di tutti i lavoratori all'organizzazione politica, economica e sociale del Paese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ttangolo 1"/>
          <p:cNvSpPr/>
          <p:nvPr/>
        </p:nvSpPr>
        <p:spPr>
          <a:xfrm>
            <a:off x="2268360" y="213372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Art. 4: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gni cittadino ha il dovere di svolgere, secondo le proprie possibilità e la propria scelta, un'attività o una funzione che concorra al progresso materiale o spirituale della società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ttangolo 2"/>
          <p:cNvSpPr/>
          <p:nvPr/>
        </p:nvSpPr>
        <p:spPr>
          <a:xfrm>
            <a:off x="2124000" y="1700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Art. 54: Tutti i cittadini hanno il dovere di essere fedeli alla Repubblica e di osservarne la Costituzione e le leggi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 cittadini cui sono affidate funzioni pubbliche hanno il dovere di adempierle con disciplina ed onore, prestando giuramento nei casi stabiliti dalla leg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609480" y="838080"/>
            <a:ext cx="7848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La CITTADINANZA è un concetto  / ha un significa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DINAMICO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457200" y="2057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 diritti dell’uomo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diventano “reali” quando sono accolti nel sistema  politico giuridico, cioè quando diventan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80880" y="3352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ritti del cittadino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in quel tempo e di quel territorio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457200" y="3962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nei fatti son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i diritti sociali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(welfare state) che permettono di “valutare” l’effettivo grado di cittadinanza realizza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57200" y="5334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a proposizione e l’accoglimento di nuovi diritti sociali, modificano il contenuto della cittadinanz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7:34:02Z</dcterms:created>
  <dc:creator>Studio Riggio</dc:creator>
  <dc:description/>
  <dc:language>en-US</dc:language>
  <cp:lastModifiedBy>user</cp:lastModifiedBy>
  <dcterms:modified xsi:type="dcterms:W3CDTF">2019-05-05T16:31:41Z</dcterms:modified>
  <cp:revision>34</cp:revision>
  <dc:subject/>
  <dc:title>Presentazione di PowerPoint</dc:title>
</cp:coreProperties>
</file>