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14.png" ContentType="image/png"/>
  <Override PartName="/ppt/media/image22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15.png" ContentType="image/png"/>
  <Override PartName="/ppt/media/image5.jpeg" ContentType="image/jpeg"/>
  <Override PartName="/ppt/media/image2.png" ContentType="image/png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</p:sldIdLst>
  <p:sldSz cx="9144000" cy="6858000"/>
  <p:notesSz cx="6854825" cy="9752013"/>
</p:presentation>
</file>

<file path=ppt/commentAuthors.xml><?xml version="1.0" encoding="utf-8"?>
<p:cmAuthorLst xmlns:p="http://schemas.openxmlformats.org/presentationml/2006/main">
  <p:cmAuthor id="0" name="TESTI-PC19" initials="T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presProps" Target="presProps.xml"/><Relationship Id="rId33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8-06-01T10:28:45.606000000" idx="1">
    <p:pos x="10" y="1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4400" cy="975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13"/>
          </p:nvPr>
        </p:nvSpPr>
        <p:spPr>
          <a:xfrm>
            <a:off x="3882600" y="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990720" y="731520"/>
            <a:ext cx="4873680" cy="365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14"/>
          </p:nvPr>
        </p:nvSpPr>
        <p:spPr>
          <a:xfrm>
            <a:off x="-3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15"/>
          </p:nvPr>
        </p:nvSpPr>
        <p:spPr>
          <a:xfrm>
            <a:off x="388260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9C6A-6692-49AF-B563-240538736CA1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3680" cy="36558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440" y="4630320"/>
            <a:ext cx="5483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Segnaposto numero diapositiva 3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DD52-F4F1-4F31-A052-6AAA0AF6138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2960" y="9261360"/>
            <a:ext cx="297036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4C0FF-3F86-4ED9-BC0A-A6EC10EBF2DF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90720" y="731880"/>
            <a:ext cx="4875120" cy="36558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440" y="4632480"/>
            <a:ext cx="548316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05B-487E-41C6-A781-EDF58FFB4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CC03-7FD4-4E5E-AC2A-A29BF386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5BC1-F7CC-42A3-AE64-7B0C93031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DEC9-1C37-4BAC-894C-4A71255B5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DD658-4605-4E07-B653-4E1AF5F9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32E3-1E4E-4CE0-9249-E7A623D8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B577-C6D3-4E4D-B458-9CF849BEC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34891-7FE7-426F-B9AB-5B5850226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7C90-1981-48ED-98CF-507AE4748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6DA24-F626-47BB-A352-C6B948F4C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04C07-BFEB-4457-AAD9-2F0142FFB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11163-6623-427A-AF56-4308DF8B6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B867-70F2-4A88-97C5-CC2E8F515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594C3-88E3-4E38-AA9B-E59BA2D77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91979-8CDB-4882-8FB5-47AAB23B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7CD83-9F9E-417B-9DC9-C13F201E5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10D42-0408-4453-8359-45FB62E1B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B8F8E-601A-475D-BE6C-93427AC7F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8A97E1-8A7B-46AA-8788-CFEA8A5F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EF31F2-4662-4C12-B8BE-10A44FBBD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771B3D-AA9D-4EBC-8591-3AFEA8459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FF0AEC-1753-4DEB-B0A8-A9A5562DE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5638-861D-4CF6-9C15-5A32CBE57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6AC29-FF03-4BC2-8FA2-7AD0B95E0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732C7-D777-4A0F-9197-A3C1C80FE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21C583-B1D7-45B3-8E57-DED88849D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12ACC-0EBF-4C17-95C7-D11989942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CA3116-15BE-446C-A8B5-2A4310441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9112E6-AF1B-411C-B424-41A8C3476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57013-4C30-495F-90F5-4EA0DF2EA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5A74D0-6D27-4F32-B32B-F73A0DAB0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FDBB8E-0BBE-444B-82E3-490477EC1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786C63-12FC-41D8-8849-BBF9E6865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B55A-6C9C-42EA-9446-E2A55AFD9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A47E-85E1-4CFC-8F73-8734A8839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9983D-1F64-4E49-9875-859E3304E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3655C6-F610-490E-ADD8-837EECC97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6C6E3-5004-408C-B805-24151490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8348E-1C7C-4D29-A922-ED075EADE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C1AE18-C3E7-4695-922C-2275DF864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349BD-D4F3-4A5F-8B40-807412900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17DA0-FEC2-42F7-A724-9BBBE93E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4932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965480" y="53352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3316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4932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4965480" y="2501280"/>
            <a:ext cx="21103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813FBE-C264-4728-9552-F3AA54742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557A-B8FC-4DA0-9702-760E06E2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3160" y="4495680"/>
            <a:ext cx="6554520" cy="706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AB81-B394-4E6B-9CAB-62A555E9F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3581F-288B-4619-A468-51A53D0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91960" y="250128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41E20-AC30-4AD4-AB4A-B2B4B0E4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1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91960" y="533520"/>
            <a:ext cx="319860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33160" y="2501280"/>
            <a:ext cx="6554520" cy="17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99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1965-8270-46A8-8AA8-81E6C606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3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a304a"/>
                </a:solidFill>
                <a:latin typeface="Century Gothic"/>
              </a:rPr>
              <a:t>2'A RM 28/05/2018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2D62-65E7-4CA9-912E-F642A5C58D7B}" type="slidenum">
              <a:rPr b="0" lang="it-IT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15"/>
          <p:cNvGrpSpPr/>
          <p:nvPr/>
        </p:nvGrpSpPr>
        <p:grpSpPr>
          <a:xfrm>
            <a:off x="4335120" y="1170000"/>
            <a:ext cx="4815000" cy="4994280"/>
            <a:chOff x="4335120" y="1170000"/>
            <a:chExt cx="4815000" cy="4994280"/>
          </a:xfrm>
        </p:grpSpPr>
        <p:sp>
          <p:nvSpPr>
            <p:cNvPr id="48" name="Straight Connector 16"/>
            <p:cNvSpPr/>
            <p:nvPr/>
          </p:nvSpPr>
          <p:spPr>
            <a:xfrm flipH="1">
              <a:off x="6009840" y="1170000"/>
              <a:ext cx="3133800" cy="313524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49" name="Straight Connector 18"/>
            <p:cNvSpPr/>
            <p:nvPr/>
          </p:nvSpPr>
          <p:spPr>
            <a:xfrm flipH="1">
              <a:off x="4335120" y="1349280"/>
              <a:ext cx="4815000" cy="481500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0" name="Straight Connector 20"/>
            <p:cNvSpPr/>
            <p:nvPr/>
          </p:nvSpPr>
          <p:spPr>
            <a:xfrm flipH="1">
              <a:off x="5226120" y="1469880"/>
              <a:ext cx="3911760" cy="3911760"/>
            </a:xfrm>
            <a:prstGeom prst="line">
              <a:avLst/>
            </a:prstGeom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1" name="Straight Connector 21"/>
            <p:cNvSpPr/>
            <p:nvPr/>
          </p:nvSpPr>
          <p:spPr>
            <a:xfrm flipH="1">
              <a:off x="5304960" y="1307880"/>
              <a:ext cx="3838680" cy="384012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52" name="Straight Connector 22"/>
            <p:cNvSpPr/>
            <p:nvPr/>
          </p:nvSpPr>
          <p:spPr>
            <a:xfrm flipH="1">
              <a:off x="5707080" y="1769760"/>
              <a:ext cx="3430800" cy="3430800"/>
            </a:xfrm>
            <a:prstGeom prst="line">
              <a:avLst/>
            </a:prstGeom>
            <a:ln cap="rnd" w="31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a304a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887C-2030-49D2-9B57-B7650D2EA323}" type="slidenum">
              <a:rPr b="0" lang="en-US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95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96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97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98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99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00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1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a304a"/>
                </a:solidFill>
                <a:latin typeface="Century Gothic"/>
              </a:rPr>
              <a:t>2'A RM 28/05/2018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942E7-C8A1-4713-93D0-A38630199FE0}" type="slidenum">
              <a:rPr b="0" lang="it-IT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4d4e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6"/>
          <p:cNvGrpSpPr/>
          <p:nvPr/>
        </p:nvGrpSpPr>
        <p:grpSpPr>
          <a:xfrm>
            <a:off x="6670440" y="3894120"/>
            <a:ext cx="2469960" cy="2658960"/>
            <a:chOff x="6670440" y="3894120"/>
            <a:chExt cx="2469960" cy="2658960"/>
          </a:xfrm>
        </p:grpSpPr>
        <p:sp>
          <p:nvSpPr>
            <p:cNvPr id="144" name="Straight Connector 7"/>
            <p:cNvSpPr/>
            <p:nvPr/>
          </p:nvSpPr>
          <p:spPr>
            <a:xfrm flipH="1">
              <a:off x="8384760" y="3894120"/>
              <a:ext cx="755640" cy="75564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5" name="Straight Connector 8"/>
            <p:cNvSpPr/>
            <p:nvPr/>
          </p:nvSpPr>
          <p:spPr>
            <a:xfrm flipH="1">
              <a:off x="6670440" y="4081320"/>
              <a:ext cx="2469960" cy="24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6" name="Straight Connector 9"/>
            <p:cNvSpPr/>
            <p:nvPr/>
          </p:nvSpPr>
          <p:spPr>
            <a:xfrm flipH="1">
              <a:off x="7569000" y="4160520"/>
              <a:ext cx="1571400" cy="1571760"/>
            </a:xfrm>
            <a:prstGeom prst="line">
              <a:avLst/>
            </a:prstGeom>
            <a:ln cap="rnd"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7" name="Straight Connector 10"/>
            <p:cNvSpPr/>
            <p:nvPr/>
          </p:nvSpPr>
          <p:spPr>
            <a:xfrm flipH="1">
              <a:off x="7694640" y="4038480"/>
              <a:ext cx="1441440" cy="144144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148" name="Straight Connector 11"/>
            <p:cNvSpPr/>
            <p:nvPr/>
          </p:nvSpPr>
          <p:spPr>
            <a:xfrm flipH="1">
              <a:off x="8088480" y="4495680"/>
              <a:ext cx="1047600" cy="1047600"/>
            </a:xfrm>
            <a:prstGeom prst="line">
              <a:avLst/>
            </a:prstGeom>
            <a:ln cap="rnd"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149" name="TextBox 13"/>
          <p:cNvSpPr/>
          <p:nvPr/>
        </p:nvSpPr>
        <p:spPr>
          <a:xfrm>
            <a:off x="228600" y="7113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0" name="TextBox 14"/>
          <p:cNvSpPr/>
          <p:nvPr/>
        </p:nvSpPr>
        <p:spPr>
          <a:xfrm>
            <a:off x="7696080" y="2768760"/>
            <a:ext cx="4572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2858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2" marL="1200240" indent="-28584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3" marL="15429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4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5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lvl="6" marL="2000160" indent="-171360">
              <a:spcBef>
                <a:spcPts val="4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f496f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7429680" y="6172200"/>
            <a:ext cx="1201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533520" y="6172200"/>
            <a:ext cx="5811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a304a"/>
                </a:solidFill>
                <a:latin typeface="Century Gothic"/>
              </a:rPr>
              <a:t>2'A RM 28/05/2018</a:t>
            </a:r>
            <a:endParaRPr b="0" lang="en-US" sz="10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7773840" y="5578200"/>
            <a:ext cx="85752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800" spc="-1" strike="noStrike">
                <a:solidFill>
                  <a:srgbClr val="0a304a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60C42-76CA-481B-B06D-9F707F4100E1}" type="slidenum">
              <a:rPr b="0" lang="it-IT" sz="2800" spc="-1" strike="noStrike">
                <a:solidFill>
                  <a:srgbClr val="0a304a"/>
                </a:solidFill>
                <a:latin typeface="Century Gothic"/>
              </a:rPr>
              <a:t>&lt;number&gt;</a:t>
            </a:fld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D:/2A/acqua.docx" TargetMode="Externa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CasellaDiTesto 7"/>
          <p:cNvSpPr/>
          <p:nvPr/>
        </p:nvSpPr>
        <p:spPr>
          <a:xfrm>
            <a:off x="2268360" y="765000"/>
            <a:ext cx="518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0" spc="-1" strike="noStrike">
                <a:solidFill>
                  <a:srgbClr val="ef48c9"/>
                </a:solidFill>
                <a:latin typeface="Baskerville Old Face"/>
              </a:rPr>
              <a:t>ACQUA</a:t>
            </a:r>
            <a:endParaRPr b="0" lang="en-US" sz="8000" spc="-1" strike="noStrike">
              <a:solidFill>
                <a:srgbClr val="0000ff"/>
              </a:solidFill>
              <a:latin typeface="Arial"/>
            </a:endParaRPr>
          </a:p>
        </p:txBody>
      </p:sp>
      <p:pic>
        <p:nvPicPr>
          <p:cNvPr id="200" name="Immagine 1" descr=""/>
          <p:cNvPicPr/>
          <p:nvPr/>
        </p:nvPicPr>
        <p:blipFill>
          <a:blip r:embed="rId2"/>
          <a:stretch/>
        </p:blipFill>
        <p:spPr>
          <a:xfrm>
            <a:off x="2124000" y="4433760"/>
            <a:ext cx="5112000" cy="24559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000" y="4652640"/>
            <a:ext cx="6554520" cy="934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QUANTA NE CONSUMIAMO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39640" y="692280"/>
            <a:ext cx="8229600" cy="4781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mediamente, ogni Italiano consuma ogni giorno 211 litri di acqua (di cui solo UNO IN MEDIA per bere)...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...cioè quanto un Africano delle zone desertiche in 6 mesi.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685800" y="121932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Trebuchet MS"/>
              </a:rPr>
              <a:t>IL NOSTRO SISTEMA IDRICO FA ACQUA DA TUTTE LE PARTI: PIU’ DI UN TERZO (IL 39%) DELL’ACQUA CHE SCORRE NELLE CONDUTTURE SI PERDE PER STRADA</a:t>
            </a:r>
            <a:endParaRPr b="0" lang="en-US" sz="1600" spc="-1" strike="noStrike">
              <a:solidFill>
                <a:srgbClr val="0000ff"/>
              </a:solidFill>
              <a:latin typeface="Arial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611280" y="2060640"/>
          <a:ext cx="7489800" cy="4419360"/>
        </p:xfrm>
        <a:graphic>
          <a:graphicData uri="http://schemas.openxmlformats.org/drawingml/2006/table">
            <a:tbl>
              <a:tblPr/>
              <a:tblGrid>
                <a:gridCol w="3744720"/>
                <a:gridCol w="3745080"/>
              </a:tblGrid>
              <a:tr h="315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REGIONI SPRECON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PERCENTUALI DI  SPRECO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Abruzzo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57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Calabr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Pugl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56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Lazio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46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Sicil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42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60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Toscan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41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54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Umbr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Campani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33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64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March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8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Piemonte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7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Veneto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6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572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Basilicat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3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1428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milia Romagna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4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0%</a:t>
                      </a:r>
                      <a:endParaRPr b="0" lang="en-US" sz="1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5" name="WordArt 50"/>
          <p:cNvSpPr txBox="1"/>
          <p:nvPr/>
        </p:nvSpPr>
        <p:spPr>
          <a:xfrm>
            <a:off x="1692360" y="189000"/>
            <a:ext cx="6119640" cy="93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rebuchet MS"/>
              </a:rPr>
              <a:t>MAPPA DELLO SPREC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rebuchet MS"/>
              <a:ea typeface="Trebuchet MS"/>
            </a:endParaRPr>
          </a:p>
        </p:txBody>
      </p:sp>
    </p:spTree>
  </p:cSld>
  <p:transition spd="slow">
    <p:fade thruBlk="true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75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75" fill="hold"/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8975"/>
                            </p:stCondLst>
                            <p:childTnLst>
                              <p:par>
                                <p:cTn id="17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78920" y="691920"/>
            <a:ext cx="8713800" cy="725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9900ff"/>
                </a:solidFill>
                <a:latin typeface="Century Gothic"/>
              </a:rPr>
              <a:t>QUANTO CI “COSTA” L’ACQUA IN BOTTIGLIA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1116000" y="4869000"/>
            <a:ext cx="6912000" cy="766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f496f"/>
                </a:solidFill>
                <a:latin typeface="Century Gothic"/>
              </a:rPr>
              <a:t>...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e minori emissioni di gas di scarico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1116000" y="2205000"/>
          <a:ext cx="7023240" cy="210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2205000"/>
                    <a:ext cx="7023240" cy="21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Rectangle 4"/>
          <p:cNvSpPr/>
          <p:nvPr/>
        </p:nvSpPr>
        <p:spPr>
          <a:xfrm>
            <a:off x="2916360" y="2492280"/>
            <a:ext cx="488628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Arial"/>
                <a:ea typeface="Arial"/>
              </a:rPr>
              <a:t>Ci sarebbero meno camion a spasso per le strade...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Century Gothic"/>
              </a:rPr>
              <a:t>QUANTO CI COSTA L’ACQUA IN BOTTIGLIA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32" name="Segnaposto contenuto 2" descr=""/>
          <p:cNvPicPr/>
          <p:nvPr/>
        </p:nvPicPr>
        <p:blipFill>
          <a:blip r:embed="rId1"/>
          <a:stretch/>
        </p:blipFill>
        <p:spPr>
          <a:xfrm>
            <a:off x="457200" y="1978200"/>
            <a:ext cx="7931160" cy="2387520"/>
          </a:xfrm>
          <a:prstGeom prst="rect">
            <a:avLst/>
          </a:prstGeom>
          <a:ln w="0">
            <a:noFill/>
          </a:ln>
        </p:spPr>
      </p:pic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4360" y="4508640"/>
            <a:ext cx="7704000" cy="16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ci sarebbero meno bottiglie di plastica da buttare...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...e quindi minor produzione di rifiuti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zoom dir="out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8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a50e82"/>
                </a:solidFill>
                <a:latin typeface="Lucida Fax"/>
              </a:rPr>
              <a:t>ACQUA DI RUBINETTO O ACQUA MINERALE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68360" y="155700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entury Gothic"/>
              </a:rPr>
              <a:t>L’acqua minerale non è, né per definizione  più pura e più sana di quella del rubinetto!</a:t>
            </a:r>
            <a:br>
              <a:rPr sz="3200"/>
            </a:br>
            <a:r>
              <a:rPr b="1" i="1" lang="it-IT" sz="3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Century Gothic"/>
              </a:rPr>
              <a:t>Inoltre i controlli generali sull’acqua del rubinetto sono più rigidi rispetto a quelli delle acque in bottiglia. 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 thruBlk="true"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533520" y="260280"/>
            <a:ext cx="495432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’ACQUA DEL RUBINETTO NON PRODUCE RIFIUTI E NON RICHIEDE L’UTILIZZO DI BOTTIGLIE, ETICHETTE, COLLA, IMBALLAGGIO, TRASPORTO 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Le industrie di acqua minerale pagano l’acqua potabile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fino a cento volte in meno di quello che paga un cittadino!!!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algn="just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Però….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37" name="Immagine 1" descr=""/>
          <p:cNvPicPr/>
          <p:nvPr/>
        </p:nvPicPr>
        <p:blipFill>
          <a:blip r:embed="rId1"/>
          <a:stretch/>
        </p:blipFill>
        <p:spPr>
          <a:xfrm>
            <a:off x="4097160" y="4932360"/>
            <a:ext cx="2781360" cy="1925640"/>
          </a:xfrm>
          <a:prstGeom prst="rect">
            <a:avLst/>
          </a:prstGeom>
          <a:ln w="0">
            <a:noFill/>
          </a:ln>
        </p:spPr>
      </p:pic>
      <p:pic>
        <p:nvPicPr>
          <p:cNvPr id="238" name="Immagine 2" descr=""/>
          <p:cNvPicPr/>
          <p:nvPr/>
        </p:nvPicPr>
        <p:blipFill>
          <a:blip r:embed="rId2"/>
          <a:stretch/>
        </p:blipFill>
        <p:spPr>
          <a:xfrm>
            <a:off x="6337440" y="2519280"/>
            <a:ext cx="2806560" cy="2016360"/>
          </a:xfrm>
          <a:prstGeom prst="rect">
            <a:avLst/>
          </a:prstGeom>
          <a:ln w="0">
            <a:noFill/>
          </a:ln>
        </p:spPr>
      </p:pic>
      <p:pic>
        <p:nvPicPr>
          <p:cNvPr id="239" name="Immagine 3" descr=""/>
          <p:cNvPicPr/>
          <p:nvPr/>
        </p:nvPicPr>
        <p:blipFill>
          <a:blip r:embed="rId3"/>
          <a:stretch/>
        </p:blipFill>
        <p:spPr>
          <a:xfrm>
            <a:off x="6351480" y="23760"/>
            <a:ext cx="2776680" cy="2484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QUINDI…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2000"/>
          </a:bodyPr>
          <a:p>
            <a:pPr marL="262800" indent="-26280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Per contenere i costi le condutture che trasportano l’acqua dell’acquedotto sono state costruite sfruttando gli spazi delle fognature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62800" indent="-26280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Quando piove molto o piove troppo poco, l’acqua delle fogne può salire fino a raggiungere le condutture dell’acquedotto.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62800" indent="-262800" algn="just"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Spesso esse sono bucate e quindi l’acqua dell’acquedotto si può contaminare.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2" name="Immagine 2" descr=""/>
          <p:cNvPicPr/>
          <p:nvPr/>
        </p:nvPicPr>
        <p:blipFill>
          <a:blip r:embed="rId1"/>
          <a:stretch/>
        </p:blipFill>
        <p:spPr>
          <a:xfrm>
            <a:off x="5516640" y="4869000"/>
            <a:ext cx="3627360" cy="1989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3160" y="4495320"/>
            <a:ext cx="5118120" cy="1249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ECCO PERCHE’….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160" y="533520"/>
            <a:ext cx="6554520" cy="37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2000" spc="-1" strike="noStrike">
                <a:solidFill>
                  <a:srgbClr val="0f496f"/>
                </a:solidFill>
                <a:latin typeface="Century Gothic"/>
              </a:rPr>
              <a:t>…</a:t>
            </a:r>
            <a:r>
              <a:rPr b="1" lang="it-IT" sz="3600" spc="-1" strike="noStrike">
                <a:solidFill>
                  <a:srgbClr val="0f496f"/>
                </a:solidFill>
                <a:latin typeface="Century Gothic"/>
              </a:rPr>
              <a:t>l’Italia è il paese europeo che consuma più acqua confezionata d’Europa. </a:t>
            </a: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  <a:p>
            <a:pPr>
              <a:spcBef>
                <a:spcPts val="9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45" name="Immagine 3" descr=""/>
          <p:cNvPicPr/>
          <p:nvPr/>
        </p:nvPicPr>
        <p:blipFill>
          <a:blip r:embed="rId1"/>
          <a:stretch/>
        </p:blipFill>
        <p:spPr>
          <a:xfrm>
            <a:off x="6527880" y="2424240"/>
            <a:ext cx="2619360" cy="1743120"/>
          </a:xfrm>
          <a:prstGeom prst="rect">
            <a:avLst/>
          </a:prstGeom>
          <a:ln w="0">
            <a:noFill/>
          </a:ln>
        </p:spPr>
      </p:pic>
      <p:pic>
        <p:nvPicPr>
          <p:cNvPr id="246" name="Immagine 4" descr=""/>
          <p:cNvPicPr/>
          <p:nvPr/>
        </p:nvPicPr>
        <p:blipFill>
          <a:blip r:embed="rId2"/>
          <a:stretch/>
        </p:blipFill>
        <p:spPr>
          <a:xfrm>
            <a:off x="4743360" y="5746680"/>
            <a:ext cx="4400640" cy="1095480"/>
          </a:xfrm>
          <a:prstGeom prst="rect">
            <a:avLst/>
          </a:prstGeom>
          <a:ln w="0">
            <a:noFill/>
          </a:ln>
        </p:spPr>
      </p:pic>
      <p:pic>
        <p:nvPicPr>
          <p:cNvPr id="247" name="Immagine 5" descr=""/>
          <p:cNvPicPr/>
          <p:nvPr/>
        </p:nvPicPr>
        <p:blipFill>
          <a:blip r:embed="rId3"/>
          <a:stretch/>
        </p:blipFill>
        <p:spPr>
          <a:xfrm>
            <a:off x="30240" y="5746680"/>
            <a:ext cx="4713120" cy="109872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3160" y="4495320"/>
            <a:ext cx="6554520" cy="66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INTANTO, NEL MONDO...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324000" y="260280"/>
            <a:ext cx="8229600" cy="377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1.200.000.000 di persone non ha acqua potabile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solo 500.000.000 di persone hanno un moderno sistema di distribuzione di acqua potabile in casa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4.000.000 di bambini ogni anno muoiono di diarrea a causa dell’acqua inquinata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>
    <p:zoom dir="out"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5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8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1" dur="8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WordArt 6"/>
          <p:cNvSpPr txBox="1"/>
          <p:nvPr/>
        </p:nvSpPr>
        <p:spPr>
          <a:xfrm>
            <a:off x="684360" y="2997360"/>
            <a:ext cx="8143560" cy="70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RIASSUMENDO……. </a:t>
            </a:r>
            <a:endParaRPr b="0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251" name="Immagine 1" descr=""/>
          <p:cNvPicPr/>
          <p:nvPr/>
        </p:nvPicPr>
        <p:blipFill>
          <a:blip r:embed="rId1"/>
          <a:stretch/>
        </p:blipFill>
        <p:spPr>
          <a:xfrm>
            <a:off x="1187280" y="4311720"/>
            <a:ext cx="51134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78920" y="259920"/>
            <a:ext cx="871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500" spc="-1" strike="noStrike">
                <a:solidFill>
                  <a:srgbClr val="ffffff"/>
                </a:solidFill>
                <a:latin typeface="Modern No. 20"/>
              </a:rPr>
              <a:t>OGGI SUL PIANETA LA </a:t>
            </a:r>
            <a:r>
              <a:rPr b="0" lang="it-IT" sz="2500" spc="-1" strike="noStrike" u="sng">
                <a:solidFill>
                  <a:srgbClr val="0d2e46"/>
                </a:solidFill>
                <a:uFillTx/>
                <a:latin typeface="Modern No. 20"/>
                <a:hlinkClick r:id="rId1"/>
              </a:rPr>
              <a:t>DISPONIBILITÀ </a:t>
            </a:r>
            <a:r>
              <a:rPr b="1" lang="it-IT" sz="2500" spc="-1" strike="noStrike">
                <a:solidFill>
                  <a:srgbClr val="ffffff"/>
                </a:solidFill>
                <a:latin typeface="Modern No. 20"/>
              </a:rPr>
              <a:t>DI ACQUA È LA STESSA DI QUANDO LA POPOLAZIONE ERA SOLO IL 3% DI QUELLA ATTUALE</a:t>
            </a:r>
            <a:endParaRPr b="0" lang="en-US" sz="25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539640" y="1600200"/>
          <a:ext cx="7561440" cy="480204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033920">
                <a:tc gridSpan="2"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CONSUMO D’ACQUA 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PRO CAPITE AL GIORNO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PERIODO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LITRI CONSUMATI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492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ra pre-cristiana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48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ra greco-romana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38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Secolo XIX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60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Età contemporanea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800" spc="-1" strike="noStrike">
                          <a:solidFill>
                            <a:srgbClr val="ffffff"/>
                          </a:solidFill>
                          <a:latin typeface="Trebuchet MS"/>
                          <a:ea typeface="Arial"/>
                        </a:rPr>
                        <a:t>800</a:t>
                      </a:r>
                      <a:endParaRPr b="0" lang="en-US" sz="28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 txBox="1"/>
          <p:nvPr/>
        </p:nvSpPr>
        <p:spPr>
          <a:xfrm>
            <a:off x="178920" y="333000"/>
            <a:ext cx="8713800" cy="439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85000"/>
              </a:lnSpc>
              <a:spcBef>
                <a:spcPts val="349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5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f496f"/>
                </a:solidFill>
                <a:latin typeface="Century Gothic"/>
              </a:rPr>
              <a:t>1,5 miliardi di persone non hanno accesso, qualitativo e/o quantitativo, all’acqua potabile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5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5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f496f"/>
                </a:solidFill>
                <a:latin typeface="Century Gothic"/>
              </a:rPr>
              <a:t>2,8 miliardi di persone non hanno accesso a servizi igienico-sanitari adeguati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5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5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5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800" spc="-1" strike="noStrike">
                <a:solidFill>
                  <a:srgbClr val="0f496f"/>
                </a:solidFill>
                <a:latin typeface="Century Gothic"/>
              </a:rPr>
              <a:t>Di queste ultime, circa 6.000 sono bambini.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I NUMERI DELLA QUESTIONE ACQUA NEL MONDO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 spd="med">
    <p:wipe dir="l"/>
  </p:transition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2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410760"/>
            <a:ext cx="7772400" cy="94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9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SPONIBILITÀ DI ACQUA POTABILE NEI VARI PAESI DEL MONDO</a:t>
            </a:r>
            <a:r>
              <a:rPr b="0" lang="it-IT" sz="36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153280" cy="470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700" spc="-1" strike="noStrike">
                <a:solidFill>
                  <a:srgbClr val="0f496f"/>
                </a:solidFill>
                <a:latin typeface="Century Gothic"/>
              </a:rPr>
              <a:t>  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</a:rPr>
              <a:t>L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e acque presenti nei paesi più poveri sono contaminate e provocano molte malattie come: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tifo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l colera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dissenteria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gastroenteriti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malaria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Queste malattie causano almeno 5 milioni di morti ogni anno di cui 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2 milioni di bambini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 thruBlk="true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0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3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2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/>
          <p:cNvSpPr/>
          <p:nvPr/>
        </p:nvSpPr>
        <p:spPr>
          <a:xfrm>
            <a:off x="3240" y="-175752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0" y="1197000"/>
            <a:ext cx="9144000" cy="8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rebuchet MS"/>
              </a:rPr>
              <a:t> </a:t>
            </a:r>
            <a:r>
              <a:rPr b="1" lang="it-IT" sz="2000" spc="-1" strike="noStrike">
                <a:solidFill>
                  <a:srgbClr val="3333ff"/>
                </a:solidFill>
                <a:latin typeface="Trebuchet MS"/>
              </a:rPr>
              <a:t>Garantire il diritto all’acqua significa garantire la pace sul pianeta.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ff"/>
                </a:solidFill>
                <a:latin typeface="Trebuchet MS"/>
              </a:rPr>
              <a:t>L’ORO BLU, come il petrolio ieri, è causa di violenti conflitti in: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  <p:grpSp>
        <p:nvGrpSpPr>
          <p:cNvPr id="258" name="Group 5"/>
          <p:cNvGrpSpPr/>
          <p:nvPr/>
        </p:nvGrpSpPr>
        <p:grpSpPr>
          <a:xfrm>
            <a:off x="328680" y="2147760"/>
            <a:ext cx="8414640" cy="4709880"/>
            <a:chOff x="328680" y="2147760"/>
            <a:chExt cx="8414640" cy="4709880"/>
          </a:xfrm>
        </p:grpSpPr>
        <p:grpSp>
          <p:nvGrpSpPr>
            <p:cNvPr id="259" name="Group 6"/>
            <p:cNvGrpSpPr/>
            <p:nvPr/>
          </p:nvGrpSpPr>
          <p:grpSpPr>
            <a:xfrm>
              <a:off x="328680" y="2147760"/>
              <a:ext cx="4206960" cy="716040"/>
              <a:chOff x="328680" y="2147760"/>
              <a:chExt cx="4206960" cy="716040"/>
            </a:xfrm>
          </p:grpSpPr>
          <p:sp>
            <p:nvSpPr>
              <p:cNvPr id="260" name="Rectangle 7"/>
              <p:cNvSpPr/>
              <p:nvPr/>
            </p:nvSpPr>
            <p:spPr>
              <a:xfrm>
                <a:off x="376560" y="214776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800" spc="-1" strike="noStrike">
                    <a:solidFill>
                      <a:srgbClr val="ffffff"/>
                    </a:solidFill>
                    <a:latin typeface="Trebuchet MS"/>
                  </a:rPr>
                  <a:t>GHANA 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1" name="Rectangle 8"/>
              <p:cNvSpPr/>
              <p:nvPr/>
            </p:nvSpPr>
            <p:spPr>
              <a:xfrm>
                <a:off x="328680" y="2147760"/>
                <a:ext cx="420696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62" name="Group 9"/>
            <p:cNvGrpSpPr/>
            <p:nvPr/>
          </p:nvGrpSpPr>
          <p:grpSpPr>
            <a:xfrm>
              <a:off x="4536000" y="2147760"/>
              <a:ext cx="4207320" cy="716040"/>
              <a:chOff x="4536000" y="2147760"/>
              <a:chExt cx="4207320" cy="716040"/>
            </a:xfrm>
          </p:grpSpPr>
          <p:sp>
            <p:nvSpPr>
              <p:cNvPr id="263" name="Rectangle 10"/>
              <p:cNvSpPr/>
              <p:nvPr/>
            </p:nvSpPr>
            <p:spPr>
              <a:xfrm>
                <a:off x="4584240" y="214776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Trebuchet MS"/>
                  </a:rPr>
                  <a:t>I poveri spendono il 50 % delle loro entrate per dissetarsi .</a:t>
                </a: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4" name="Rectangle 11"/>
              <p:cNvSpPr/>
              <p:nvPr/>
            </p:nvSpPr>
            <p:spPr>
              <a:xfrm>
                <a:off x="4536000" y="2147760"/>
                <a:ext cx="420732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65" name="Group 12"/>
            <p:cNvGrpSpPr/>
            <p:nvPr/>
          </p:nvGrpSpPr>
          <p:grpSpPr>
            <a:xfrm>
              <a:off x="328680" y="2864160"/>
              <a:ext cx="4206960" cy="920520"/>
              <a:chOff x="328680" y="2864160"/>
              <a:chExt cx="4206960" cy="920520"/>
            </a:xfrm>
          </p:grpSpPr>
          <p:sp>
            <p:nvSpPr>
              <p:cNvPr id="266" name="Rectangle 13"/>
              <p:cNvSpPr/>
              <p:nvPr/>
            </p:nvSpPr>
            <p:spPr>
              <a:xfrm>
                <a:off x="376560" y="2864160"/>
                <a:ext cx="4110840" cy="920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3200" spc="-1" strike="noStrike">
                    <a:solidFill>
                      <a:srgbClr val="ffffff"/>
                    </a:solidFill>
                    <a:latin typeface="Trebuchet MS"/>
                  </a:rPr>
                  <a:t>CINA</a:t>
                </a:r>
                <a:endParaRPr b="0" lang="en-US" sz="32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67" name="Rectangle 14"/>
              <p:cNvSpPr/>
              <p:nvPr/>
            </p:nvSpPr>
            <p:spPr>
              <a:xfrm>
                <a:off x="328680" y="2864160"/>
                <a:ext cx="4206960" cy="9205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68" name="Group 15"/>
            <p:cNvGrpSpPr/>
            <p:nvPr/>
          </p:nvGrpSpPr>
          <p:grpSpPr>
            <a:xfrm>
              <a:off x="4536000" y="2864160"/>
              <a:ext cx="4207320" cy="920520"/>
              <a:chOff x="4536000" y="2864160"/>
              <a:chExt cx="4207320" cy="920520"/>
            </a:xfrm>
          </p:grpSpPr>
          <p:sp>
            <p:nvSpPr>
              <p:cNvPr id="269" name="Rectangle 16"/>
              <p:cNvSpPr/>
              <p:nvPr/>
            </p:nvSpPr>
            <p:spPr>
              <a:xfrm>
                <a:off x="4584240" y="2864160"/>
                <a:ext cx="4110840" cy="9205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Trebuchet MS"/>
                  </a:rPr>
                  <a:t>10 milioni di persone costrette a sfollare per la costruzione della diga delle TRE GOLE</a:t>
                </a:r>
                <a:endParaRPr b="0" lang="en-US" sz="16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0" name="Rectangle 17"/>
              <p:cNvSpPr/>
              <p:nvPr/>
            </p:nvSpPr>
            <p:spPr>
              <a:xfrm>
                <a:off x="4536000" y="2864160"/>
                <a:ext cx="4207320" cy="92052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71" name="Group 18"/>
            <p:cNvGrpSpPr/>
            <p:nvPr/>
          </p:nvGrpSpPr>
          <p:grpSpPr>
            <a:xfrm>
              <a:off x="328680" y="3785040"/>
              <a:ext cx="4206960" cy="716040"/>
              <a:chOff x="328680" y="3785040"/>
              <a:chExt cx="4206960" cy="716040"/>
            </a:xfrm>
          </p:grpSpPr>
          <p:sp>
            <p:nvSpPr>
              <p:cNvPr id="272" name="Rectangle 19"/>
              <p:cNvSpPr/>
              <p:nvPr/>
            </p:nvSpPr>
            <p:spPr>
              <a:xfrm>
                <a:off x="376560" y="378504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800" spc="-1" strike="noStrike">
                    <a:solidFill>
                      <a:srgbClr val="ffffff"/>
                    </a:solidFill>
                    <a:latin typeface="Trebuchet MS"/>
                  </a:rPr>
                  <a:t>ETIOPIA-EGITTO-SUDAN </a:t>
                </a: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3" name="Rectangle 20"/>
              <p:cNvSpPr/>
              <p:nvPr/>
            </p:nvSpPr>
            <p:spPr>
              <a:xfrm>
                <a:off x="328680" y="3785040"/>
                <a:ext cx="420696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21"/>
            <p:cNvGrpSpPr/>
            <p:nvPr/>
          </p:nvGrpSpPr>
          <p:grpSpPr>
            <a:xfrm>
              <a:off x="4536000" y="3785040"/>
              <a:ext cx="4207320" cy="716040"/>
              <a:chOff x="4536000" y="3785040"/>
              <a:chExt cx="4207320" cy="716040"/>
            </a:xfrm>
          </p:grpSpPr>
          <p:sp>
            <p:nvSpPr>
              <p:cNvPr id="275" name="Rectangle 22"/>
              <p:cNvSpPr/>
              <p:nvPr/>
            </p:nvSpPr>
            <p:spPr>
              <a:xfrm>
                <a:off x="4584240" y="378504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Trebuchet MS"/>
                  </a:rPr>
                  <a:t>Si è combattuto per le acque del Nilo </a:t>
                </a:r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6" name="Rectangle 23"/>
              <p:cNvSpPr/>
              <p:nvPr/>
            </p:nvSpPr>
            <p:spPr>
              <a:xfrm>
                <a:off x="4536000" y="3785040"/>
                <a:ext cx="420732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77" name="Group 24"/>
            <p:cNvGrpSpPr/>
            <p:nvPr/>
          </p:nvGrpSpPr>
          <p:grpSpPr>
            <a:xfrm>
              <a:off x="328680" y="4501800"/>
              <a:ext cx="4206960" cy="920880"/>
              <a:chOff x="328680" y="4501800"/>
              <a:chExt cx="4206960" cy="920880"/>
            </a:xfrm>
          </p:grpSpPr>
          <p:sp>
            <p:nvSpPr>
              <p:cNvPr id="278" name="Rectangle 25"/>
              <p:cNvSpPr/>
              <p:nvPr/>
            </p:nvSpPr>
            <p:spPr>
              <a:xfrm>
                <a:off x="376560" y="4501800"/>
                <a:ext cx="4110840" cy="920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ffff"/>
                    </a:solidFill>
                    <a:latin typeface="Trebuchet MS"/>
                  </a:rPr>
                  <a:t>TURCHIA-SIRIA-IRAQ </a:t>
                </a: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79" name="Rectangle 26"/>
              <p:cNvSpPr/>
              <p:nvPr/>
            </p:nvSpPr>
            <p:spPr>
              <a:xfrm>
                <a:off x="328680" y="4501800"/>
                <a:ext cx="4206960" cy="9208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0" name="Group 27"/>
            <p:cNvGrpSpPr/>
            <p:nvPr/>
          </p:nvGrpSpPr>
          <p:grpSpPr>
            <a:xfrm>
              <a:off x="4536000" y="4501800"/>
              <a:ext cx="4207320" cy="920880"/>
              <a:chOff x="4536000" y="4501800"/>
              <a:chExt cx="4207320" cy="920880"/>
            </a:xfrm>
          </p:grpSpPr>
          <p:sp>
            <p:nvSpPr>
              <p:cNvPr id="281" name="Rectangle 28"/>
              <p:cNvSpPr/>
              <p:nvPr/>
            </p:nvSpPr>
            <p:spPr>
              <a:xfrm>
                <a:off x="4584240" y="4501800"/>
                <a:ext cx="4110840" cy="92088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ffffff"/>
                    </a:solidFill>
                    <a:latin typeface="Trebuchet MS"/>
                  </a:rPr>
                  <a:t>I progetti di sviluppo idrico e il controllo di sorgenti e bacini idrici sono motivi di conflitti.</a:t>
                </a:r>
                <a:endParaRPr b="0" lang="en-US" sz="16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2" name="Rectangle 29"/>
              <p:cNvSpPr/>
              <p:nvPr/>
            </p:nvSpPr>
            <p:spPr>
              <a:xfrm>
                <a:off x="4536000" y="4501800"/>
                <a:ext cx="4207320" cy="92088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30"/>
            <p:cNvGrpSpPr/>
            <p:nvPr/>
          </p:nvGrpSpPr>
          <p:grpSpPr>
            <a:xfrm>
              <a:off x="328680" y="5423040"/>
              <a:ext cx="4206960" cy="716040"/>
              <a:chOff x="328680" y="5423040"/>
              <a:chExt cx="4206960" cy="716040"/>
            </a:xfrm>
          </p:grpSpPr>
          <p:sp>
            <p:nvSpPr>
              <p:cNvPr id="284" name="Rectangle 31"/>
              <p:cNvSpPr/>
              <p:nvPr/>
            </p:nvSpPr>
            <p:spPr>
              <a:xfrm>
                <a:off x="376560" y="542304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400" spc="-1" strike="noStrike">
                    <a:solidFill>
                      <a:srgbClr val="ffffff"/>
                    </a:solidFill>
                    <a:latin typeface="Trebuchet MS"/>
                  </a:rPr>
                  <a:t>INDIA – PAKISTAN </a:t>
                </a:r>
                <a:endParaRPr b="0" lang="en-US" sz="24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5" name="Rectangle 32"/>
              <p:cNvSpPr/>
              <p:nvPr/>
            </p:nvSpPr>
            <p:spPr>
              <a:xfrm>
                <a:off x="328680" y="5423040"/>
                <a:ext cx="420696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grpSp>
          <p:nvGrpSpPr>
            <p:cNvPr id="286" name="Group 33"/>
            <p:cNvGrpSpPr/>
            <p:nvPr/>
          </p:nvGrpSpPr>
          <p:grpSpPr>
            <a:xfrm>
              <a:off x="4536000" y="5423040"/>
              <a:ext cx="4207320" cy="716040"/>
              <a:chOff x="4536000" y="5423040"/>
              <a:chExt cx="4207320" cy="716040"/>
            </a:xfrm>
          </p:grpSpPr>
          <p:sp>
            <p:nvSpPr>
              <p:cNvPr id="287" name="Rectangle 34"/>
              <p:cNvSpPr/>
              <p:nvPr/>
            </p:nvSpPr>
            <p:spPr>
              <a:xfrm>
                <a:off x="4584240" y="5423040"/>
                <a:ext cx="4110840" cy="71604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2000" spc="-1" strike="noStrike">
                    <a:solidFill>
                      <a:srgbClr val="ffffff"/>
                    </a:solidFill>
                    <a:latin typeface="Trebuchet MS"/>
                  </a:rPr>
                  <a:t>Combattono per le acque del Gange </a:t>
                </a:r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  <p:sp>
            <p:nvSpPr>
              <p:cNvPr id="288" name="Rectangle 35"/>
              <p:cNvSpPr/>
              <p:nvPr/>
            </p:nvSpPr>
            <p:spPr>
              <a:xfrm>
                <a:off x="4536000" y="5423040"/>
                <a:ext cx="4207320" cy="716040"/>
              </a:xfrm>
              <a:prstGeom prst="rect">
                <a:avLst/>
              </a:prstGeom>
              <a:noFill/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spcBef>
                    <a:spcPts val="451"/>
                  </a:spcBef>
                  <a:buClr>
                    <a:srgbClr val="0000ff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ff"/>
                  </a:solidFill>
                  <a:latin typeface="Arial"/>
                </a:endParaRPr>
              </a:p>
            </p:txBody>
          </p:sp>
        </p:grpSp>
        <p:sp>
          <p:nvSpPr>
            <p:cNvPr id="289" name="Rectangle 43"/>
            <p:cNvSpPr/>
            <p:nvPr/>
          </p:nvSpPr>
          <p:spPr>
            <a:xfrm>
              <a:off x="376560" y="6141240"/>
              <a:ext cx="4110840" cy="716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rebuchet MS"/>
                </a:rPr>
                <a:t>PALESTINA- GIORDANIA- ISRAELE 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  <p:sp>
          <p:nvSpPr>
            <p:cNvPr id="290" name="Rectangle 46"/>
            <p:cNvSpPr/>
            <p:nvPr/>
          </p:nvSpPr>
          <p:spPr>
            <a:xfrm>
              <a:off x="4541400" y="6141240"/>
              <a:ext cx="4110480" cy="716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ffffff"/>
                  </a:solidFill>
                  <a:latin typeface="Trebuchet MS"/>
                </a:rPr>
                <a:t>Lottano per le acque del Giordano</a:t>
              </a: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ff"/>
                </a:solidFill>
                <a:latin typeface="Arial"/>
              </a:endParaRPr>
            </a:p>
          </p:txBody>
        </p:sp>
      </p:grpSp>
      <p:sp>
        <p:nvSpPr>
          <p:cNvPr id="291" name="Text Box 50"/>
          <p:cNvSpPr/>
          <p:nvPr/>
        </p:nvSpPr>
        <p:spPr>
          <a:xfrm>
            <a:off x="324000" y="33336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ff"/>
                </a:solidFill>
                <a:latin typeface="Lucida Fax"/>
                <a:ea typeface="Times New Roman"/>
              </a:rPr>
              <a:t>LE GUERRE PER IL CONTROLLO DELLE RISORSE IDRICHE</a:t>
            </a:r>
            <a:endParaRPr b="0" lang="en-US" sz="28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3880" y="620640"/>
            <a:ext cx="7886880" cy="394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PER RIDURRE I CONFLITTI, L’ACQUA DEVE ESSERE CONSIDERATA UNA </a:t>
            </a:r>
            <a:r>
              <a:rPr b="1" i="1" lang="it-IT" sz="3600" spc="-1" strike="noStrike" u="sng">
                <a:solidFill>
                  <a:srgbClr val="ffffff"/>
                </a:solidFill>
                <a:uFillTx/>
                <a:latin typeface="Trebuchet MS"/>
                <a:ea typeface="Times New Roman"/>
              </a:rPr>
              <a:t>RISORSA COMUNE</a:t>
            </a:r>
            <a:r>
              <a:rPr b="1" i="1" lang="it-IT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lang="it-IT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E NON UNA</a:t>
            </a:r>
            <a:r>
              <a:rPr b="1" i="1" lang="it-IT" sz="3600" spc="-1" strike="noStrike">
                <a:solidFill>
                  <a:srgbClr val="ffffff"/>
                </a:solidFill>
                <a:latin typeface="Trebuchet MS"/>
                <a:ea typeface="Times New Roman"/>
              </a:rPr>
              <a:t> </a:t>
            </a:r>
            <a:r>
              <a:rPr b="1" i="1" lang="it-IT" sz="3600" spc="-1" strike="noStrike" u="sng">
                <a:solidFill>
                  <a:srgbClr val="ffffff"/>
                </a:solidFill>
                <a:uFillTx/>
                <a:latin typeface="Trebuchet MS"/>
                <a:ea typeface="Times New Roman"/>
              </a:rPr>
              <a:t>MERC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93" name="Immagine 1" descr=""/>
          <p:cNvPicPr/>
          <p:nvPr/>
        </p:nvPicPr>
        <p:blipFill>
          <a:blip r:embed="rId1"/>
          <a:stretch/>
        </p:blipFill>
        <p:spPr>
          <a:xfrm>
            <a:off x="1187280" y="3789360"/>
            <a:ext cx="2610000" cy="1752480"/>
          </a:xfrm>
          <a:prstGeom prst="rect">
            <a:avLst/>
          </a:prstGeom>
          <a:ln w="0">
            <a:noFill/>
          </a:ln>
        </p:spPr>
      </p:pic>
      <p:pic>
        <p:nvPicPr>
          <p:cNvPr id="294" name="Immagine 2" descr=""/>
          <p:cNvPicPr/>
          <p:nvPr/>
        </p:nvPicPr>
        <p:blipFill>
          <a:blip r:embed="rId2"/>
          <a:stretch/>
        </p:blipFill>
        <p:spPr>
          <a:xfrm>
            <a:off x="6443640" y="475920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295" name="Immagine 3" descr=""/>
          <p:cNvPicPr/>
          <p:nvPr/>
        </p:nvPicPr>
        <p:blipFill>
          <a:blip r:embed="rId3"/>
          <a:stretch/>
        </p:blipFill>
        <p:spPr>
          <a:xfrm>
            <a:off x="4361040" y="2994120"/>
            <a:ext cx="2866680" cy="15904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600" spc="-1" strike="noStrike">
                <a:solidFill>
                  <a:srgbClr val="ff3300"/>
                </a:solidFill>
                <a:latin typeface="Century Gothic"/>
              </a:rPr>
              <a:t>LA “PETROLIZZAZIONE” DELL’ACQUA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755640" y="1773360"/>
            <a:ext cx="7848720" cy="468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>
              <a:lnSpc>
                <a:spcPct val="70000"/>
              </a:lnSpc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Cause della SCARSITA’ d’acqua: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Distribuzione disuniforme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Eccesso di sfruttamento “produttivo”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Inquinamento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   </a:t>
            </a: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Sprechi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</p:spTree>
  </p:cSld>
  <p:transition spd="slow">
    <p:fade thruBlk="true"/>
  </p:transition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10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10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1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2" dur="1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6" dur="1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3300"/>
                </a:solidFill>
                <a:latin typeface="Century Gothic"/>
              </a:rPr>
              <a:t>LA “PETROLIZZAZIONE” DELL’ACQUA (2)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0920" y="1169640"/>
            <a:ext cx="6697440" cy="536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94000"/>
          </a:bodyPr>
          <a:p>
            <a:pPr marL="268560" indent="-268560" algn="ctr">
              <a:lnSpc>
                <a:spcPct val="7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 algn="ctr">
              <a:lnSpc>
                <a:spcPct val="7000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 u="sng">
                <a:solidFill>
                  <a:srgbClr val="ffffff"/>
                </a:solidFill>
                <a:uFillTx/>
                <a:latin typeface="Century Gothic"/>
              </a:rPr>
              <a:t>Processo di MERCIFICAZIONE dell’acqua:</a:t>
            </a: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 algn="ctr">
              <a:lnSpc>
                <a:spcPts val="0"/>
              </a:lnSpc>
              <a:spcBef>
                <a:spcPts val="10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8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• 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Scarsità della risorsa e aumento della domanda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8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   • 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Necessità di ingenti investimenti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8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   • 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Affidamento dei servizi idrici a privati;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80000"/>
              </a:lnSpc>
              <a:spcBef>
                <a:spcPts val="14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entury Gothic"/>
              </a:rPr>
              <a:t>   •  </a:t>
            </a:r>
            <a:r>
              <a:rPr b="1" lang="it-IT" sz="2800" spc="-1" strike="noStrike">
                <a:solidFill>
                  <a:srgbClr val="ffffff"/>
                </a:solidFill>
                <a:latin typeface="Century Gothic"/>
              </a:rPr>
              <a:t>Pieno recupero del costo di produzione</a:t>
            </a:r>
            <a:endParaRPr b="0" lang="en-US" sz="28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0f496f"/>
              </a:solidFill>
              <a:latin typeface="Century Gothic"/>
            </a:endParaRPr>
          </a:p>
          <a:p>
            <a:pPr marL="268560" indent="-268560">
              <a:lnSpc>
                <a:spcPct val="130000"/>
              </a:lnSpc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entury Gothic"/>
              </a:rPr>
              <a:t>      </a:t>
            </a:r>
            <a:r>
              <a:rPr b="1" lang="it-IT" sz="4000" spc="-1" strike="noStrike">
                <a:solidFill>
                  <a:srgbClr val="ffffff"/>
                </a:solidFill>
                <a:latin typeface="Century Gothic"/>
              </a:rPr>
              <a:t>ACQUA = “</a:t>
            </a:r>
            <a:r>
              <a:rPr b="1" lang="it-IT" sz="4000" spc="-1" strike="noStrike" u="sng">
                <a:solidFill>
                  <a:srgbClr val="ffffff"/>
                </a:solidFill>
                <a:uFillTx/>
                <a:latin typeface="Century Gothic"/>
              </a:rPr>
              <a:t>ORO BLU</a:t>
            </a:r>
            <a:r>
              <a:rPr b="1" lang="it-IT" sz="4000" spc="-1" strike="noStrike">
                <a:solidFill>
                  <a:srgbClr val="ffffff"/>
                </a:solidFill>
                <a:latin typeface="Century Gothic"/>
              </a:rPr>
              <a:t>”</a:t>
            </a:r>
            <a:endParaRPr b="0" lang="en-US" sz="40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300" name="Immagine 2" descr=""/>
          <p:cNvPicPr/>
          <p:nvPr/>
        </p:nvPicPr>
        <p:blipFill>
          <a:blip r:embed="rId1"/>
          <a:stretch/>
        </p:blipFill>
        <p:spPr>
          <a:xfrm>
            <a:off x="6948360" y="3141720"/>
            <a:ext cx="2195640" cy="18478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1000" fill="hold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1000" fill="hold"/>
                                        <p:tgtEl>
                                          <p:spTgt spid="2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WordArt 2"/>
          <p:cNvSpPr txBox="1"/>
          <p:nvPr/>
        </p:nvSpPr>
        <p:spPr>
          <a:xfrm>
            <a:off x="826920" y="69228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rebuchet MS"/>
              </a:rPr>
              <a:t>L'uso dell'acqua nel mondo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rebuchet MS"/>
              <a:ea typeface="Trebuchet MS"/>
            </a:endParaRPr>
          </a:p>
        </p:txBody>
      </p:sp>
      <p:graphicFrame>
        <p:nvGraphicFramePr>
          <p:cNvPr id="204" name="Object 3"/>
          <p:cNvGraphicFramePr/>
          <p:nvPr/>
        </p:nvGraphicFramePr>
        <p:xfrm>
          <a:off x="-3529080" y="2349360"/>
          <a:ext cx="12673080" cy="6330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529080" y="2349360"/>
                    <a:ext cx="12673080" cy="633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1064"/>
          <p:cNvSpPr/>
          <p:nvPr/>
        </p:nvSpPr>
        <p:spPr>
          <a:xfrm>
            <a:off x="179280" y="476280"/>
            <a:ext cx="87138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ff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7886880" cy="5435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i="1" lang="it-IT" sz="3200" spc="-1" strike="noStrike">
                <a:solidFill>
                  <a:srgbClr val="ffffff"/>
                </a:solidFill>
                <a:latin typeface="Trebuchet MS"/>
              </a:rPr>
              <a:t>UNA DOCCIA DI TRE MINUTI FA CONSUMARE 50 LITRI DI ACQUA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08" name="Immagine 1" descr=""/>
          <p:cNvPicPr/>
          <p:nvPr/>
        </p:nvPicPr>
        <p:blipFill>
          <a:blip r:embed="rId1"/>
          <a:stretch/>
        </p:blipFill>
        <p:spPr>
          <a:xfrm>
            <a:off x="1835280" y="189000"/>
            <a:ext cx="5832360" cy="402408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4" descr="54735_4_450_450"/>
          <p:cNvPicPr/>
          <p:nvPr/>
        </p:nvPicPr>
        <p:blipFill>
          <a:blip r:embed="rId1"/>
          <a:stretch/>
        </p:blipFill>
        <p:spPr>
          <a:xfrm>
            <a:off x="1476360" y="1628640"/>
            <a:ext cx="6120000" cy="4464360"/>
          </a:xfrm>
          <a:prstGeom prst="rect">
            <a:avLst/>
          </a:prstGeom>
          <a:ln w="0">
            <a:noFill/>
          </a:ln>
        </p:spPr>
      </p:pic>
      <p:sp>
        <p:nvSpPr>
          <p:cNvPr id="210" name="Text Box 5"/>
          <p:cNvSpPr/>
          <p:nvPr/>
        </p:nvSpPr>
        <p:spPr>
          <a:xfrm>
            <a:off x="1332000" y="692280"/>
            <a:ext cx="64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PREVISIONE DISPONIBILITA’ DI ACQUA NEL 2025</a:t>
            </a:r>
            <a:endParaRPr b="0" lang="en-US" sz="2000" spc="-1" strike="noStrike">
              <a:solidFill>
                <a:srgbClr val="0000ff"/>
              </a:solidFill>
              <a:latin typeface="Arial"/>
            </a:endParaRPr>
          </a:p>
        </p:txBody>
      </p:sp>
    </p:spTree>
  </p:cSld>
  <p:transition spd="slow">
    <p:fade thruBlk="true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9" dur="2000" fill="hold"/>
                                        <p:tgtEl>
                                          <p:spTgt spid="2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0320" y="75960"/>
            <a:ext cx="8113680" cy="1191960"/>
          </a:xfrm>
          <a:prstGeom prst="rect">
            <a:avLst/>
          </a:prstGeom>
          <a:noFill/>
          <a:ln w="9360">
            <a:solidFill>
              <a:srgbClr val="f585db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Century Gothic"/>
              </a:rPr>
              <a:t>DISPONIBILITA’ DI ACQUA PER PERSONA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0880" y="1599840"/>
            <a:ext cx="8229600" cy="514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La disponibilità di acqua per ogni persona varia da un paese all’altro ad esempio: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egli USA sono 425 litri (di cui il 50% è 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    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utilizzato per innaffiare il giardino di casa)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n Italia 237 litri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n Francia 150 litri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n Uganda e Madagascar 10 litri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 algn="just">
              <a:lnSpc>
                <a:spcPct val="80000"/>
              </a:lnSpc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el secolo scorso l’umanità utilizzava circa 600 km</a:t>
            </a:r>
            <a:r>
              <a:rPr b="1" lang="it-IT" sz="2200" spc="-1" strike="noStrike" baseline="30000">
                <a:solidFill>
                  <a:srgbClr val="ffffff"/>
                </a:solidFill>
                <a:latin typeface="Century Gothic"/>
                <a:ea typeface="Times New Roman"/>
              </a:rPr>
              <a:t>3 </a:t>
            </a:r>
            <a:r>
              <a:rPr b="1" lang="it-IT" sz="22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di acqua, oggi ne utilizza 6000. Questo aumento è dovuto all’aumento della popolazione.</a:t>
            </a:r>
            <a:endParaRPr b="0" lang="en-US" sz="2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80000"/>
              </a:lnSpc>
              <a:spcBef>
                <a:spcPts val="476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13" name="Picture 4" descr="acqua4"/>
          <p:cNvPicPr/>
          <p:nvPr/>
        </p:nvPicPr>
        <p:blipFill>
          <a:blip r:embed="rId1"/>
          <a:stretch/>
        </p:blipFill>
        <p:spPr>
          <a:xfrm>
            <a:off x="6715080" y="2205000"/>
            <a:ext cx="203040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2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2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0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6588e"/>
            </a:gs>
          </a:gsLst>
          <a:lin ang="612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2900" spc="-1" strike="noStrike">
                <a:solidFill>
                  <a:srgbClr val="ff0000"/>
                </a:solidFill>
                <a:latin typeface="Century Gothic"/>
              </a:rPr>
              <a:t>CONSUMO PRO CAPITE IN ITALIA:</a:t>
            </a:r>
            <a:br>
              <a:rPr sz="2900"/>
            </a:br>
            <a:r>
              <a:rPr b="1" lang="it-IT" sz="2900" spc="-1" strike="noStrike">
                <a:solidFill>
                  <a:srgbClr val="ff3300"/>
                </a:solidFill>
                <a:latin typeface="Century Gothic"/>
              </a:rPr>
              <a:t>270 L/G</a:t>
            </a:r>
            <a:endParaRPr b="0" lang="en-US" sz="29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215" name="Picture 3" descr="Wasserverbrauch_Huashalt_it"/>
          <p:cNvPicPr/>
          <p:nvPr/>
        </p:nvPicPr>
        <p:blipFill>
          <a:blip r:embed="rId1"/>
          <a:stretch/>
        </p:blipFill>
        <p:spPr>
          <a:xfrm>
            <a:off x="324000" y="765000"/>
            <a:ext cx="7993080" cy="6093000"/>
          </a:xfrm>
          <a:prstGeom prst="rect">
            <a:avLst/>
          </a:prstGeom>
          <a:ln w="0">
            <a:noFill/>
          </a:ln>
        </p:spPr>
      </p:pic>
    </p:spTree>
  </p:cSld>
  <p:transition spd="slow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522936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Comic Sans MS"/>
              </a:rPr>
              <a:t> </a:t>
            </a:r>
            <a:br>
              <a:rPr sz="3600"/>
            </a:br>
            <a:r>
              <a:rPr b="1" lang="it-IT" sz="3600" spc="-1" strike="noStrike">
                <a:solidFill>
                  <a:srgbClr val="ffffff"/>
                </a:solidFill>
                <a:latin typeface="Comic Sans MS"/>
              </a:rPr>
              <a:t>MA QUANTA ACQUA CONSUMIAMO?!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217" name=""/>
          <p:cNvGraphicFramePr/>
          <p:nvPr/>
        </p:nvGraphicFramePr>
        <p:xfrm>
          <a:off x="380880" y="189000"/>
          <a:ext cx="7863120" cy="4752720"/>
        </p:xfrm>
        <a:graphic>
          <a:graphicData uri="http://schemas.openxmlformats.org/drawingml/2006/table">
            <a:tbl>
              <a:tblPr/>
              <a:tblGrid>
                <a:gridCol w="3932280"/>
                <a:gridCol w="3930840"/>
              </a:tblGrid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1,4 litri 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2f6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Lavarsi le man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52f61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 2 a 30 litri 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varsi i dent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 35 a 90 litr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Fare la doccia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40 litr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vare i piatti a mano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20 litr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vastoviglie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8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 80 a 120 litri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lavatrice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5 litri al giorno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Perdita rubinetto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  <a:tr h="52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6 litri al giorno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cucinare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cdd2"/>
                    </a:solidFill>
                  </a:tcPr>
                </a:tc>
              </a:tr>
              <a:tr h="52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Da 15 a 20 litri al giorno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it-IT" sz="2400" spc="-1" strike="noStrike">
                          <a:solidFill>
                            <a:srgbClr val="000000"/>
                          </a:solidFill>
                          <a:latin typeface="Century Gothic"/>
                        </a:rPr>
                        <a:t>Scarico WC</a:t>
                      </a:r>
                      <a:endParaRPr b="0" lang="en-US" sz="2400" spc="-1" strike="noStrike">
                        <a:solidFill>
                          <a:srgbClr val="0000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a"/>
                    </a:solidFill>
                  </a:tcPr>
                </a:tc>
              </a:tr>
            </a:tbl>
          </a:graphicData>
        </a:graphic>
      </p:graphicFrame>
    </p:spTree>
  </p:cSld>
  <p:transition spd="slow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33160" y="4495680"/>
            <a:ext cx="655452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entury Gothic"/>
              </a:rPr>
              <a:t>QUANTA ACQUA SPRECHIAMO?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22200" y="764640"/>
            <a:ext cx="8229600" cy="3341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80 litri al giorno a persona negli scarichi dello sciacquone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5000 litri l’anno con un rubinetto che perde una goccia al secondo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  <a:p>
            <a:pPr marL="2858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ffffff"/>
              </a:buClr>
              <a:buSzPct val="80000"/>
              <a:buFont typeface="Wingdings 3" charset="2"/>
              <a:buChar char="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Century Gothic"/>
              </a:rPr>
              <a:t>2500 litri l’anno a persona lavandosi i denti con il rubinetto aperto</a:t>
            </a:r>
            <a:endParaRPr b="0" lang="en-US" sz="3200" spc="-1" strike="noStrike">
              <a:solidFill>
                <a:srgbClr val="0f496f"/>
              </a:solidFill>
              <a:latin typeface="Century Gothic"/>
            </a:endParaRPr>
          </a:p>
        </p:txBody>
      </p:sp>
      <p:pic>
        <p:nvPicPr>
          <p:cNvPr id="220" name="Picture 4" descr=""/>
          <p:cNvPicPr/>
          <p:nvPr/>
        </p:nvPicPr>
        <p:blipFill>
          <a:blip r:embed="rId1"/>
          <a:stretch/>
        </p:blipFill>
        <p:spPr>
          <a:xfrm>
            <a:off x="7143840" y="4686480"/>
            <a:ext cx="1390680" cy="1895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" dur="50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2T18:22:02Z</dcterms:created>
  <dc:creator>Ciccone, Svincolatore, Mirko e Alessio.</dc:creator>
  <dc:description/>
  <dc:language>en-US</dc:language>
  <cp:lastModifiedBy>user</cp:lastModifiedBy>
  <dcterms:modified xsi:type="dcterms:W3CDTF">2019-11-30T16:30:01Z</dcterms:modified>
  <cp:revision>323</cp:revision>
  <dc:subject>PED</dc:subject>
  <dc:title>Presentazione di PowerPoint</dc:title>
</cp:coreProperties>
</file>